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2CEC49-E0F3-43AD-8B2D-FE1253C6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new Governance Hierarchy concepts. Explain that the roles and responsibilities will be described in the next few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new DPO positions and their roles and responsi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any changes to existing positions (EC and CARTs), roles and responsi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scribe the roles and responsibilities of the new S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new DPO positions, roles and responsi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of the new PMO positions, roles and responsi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project signature authorization levels and defin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project pipeline inputs and outputs have not ch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new conceptual differences adopted for Project Management and Development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new project structure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new conceptual differences adopted for the Project Development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the 10 project milestones. Encourage the audience to study the definitions and refer to OP 4 document for details. Goals can be found in the ERCOT Corporate goals program docu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the new PRQ role and the compliance items that will b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82B59C-023E-4ABE-B468-DFFC0D95A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0E6C54-2EE7-45E5-808E-C13DA571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FF014A-BD6F-4279-95B9-06C5B4E6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new organization focusing on the PMO, and DPO organizations. Explain that the roles and responsibilities for the new groups will be described in coming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organization and focus of each Operating Proced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cover and tables of contents of each document 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where the procedures can be found and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explain that the remaining segments of the training will describe the new PMO standards and suppor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420E-3586-45BD-B5EB-E81DBEE1D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662E-B8E0-4595-9D6F-42E7696CC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5AC3-3157-4E99-B0DD-1E9D1798E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B714-DB59-4696-A926-C9928AC61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1772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58F7-E516-4A9B-8CE4-9BF2CDA69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811E-64F3-467C-A0A4-FD11881ED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AFAC-E681-4657-8CE4-D2D08F734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127C-4D5F-41E4-BC58-474E58F20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772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A3FF-02D4-4F91-994B-BE97B5061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98AC-2EE7-4DCB-BC23-92ACB1BD4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F9DE-B05E-4CD7-B371-DF4FC3606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B78A-4184-4290-B4D6-4DD4EC5BF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1772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83E0D0E1-7BDC-4620-B0A5-BB097AA685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193320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Process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35400" y="3362400"/>
            <a:ext cx="62100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gr, Market Ops Divisional Projects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0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92160" y="748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Governance Hierarchy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39680" y="1054080"/>
          <a:ext cx="896616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054080"/>
                    <a:ext cx="89661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2396-57E7-4A44-A80D-E1C83A512E5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92160" y="6192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Divisional Projects Organization (DPO)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5920" y="888840"/>
            <a:ext cx="833904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ivisional Projects Organization (DPO) 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/accountable for business area project portfolio manage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/accountable for successful completion of projec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0440" y="1886040"/>
            <a:ext cx="8704440" cy="48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CC7C-0A9C-48D5-8BC2-F3AC49170C5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140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oles and Responsibilities</a:t>
            </a: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ive Committee (E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ews approvals and recommendations provided by Strategic Review Team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approval via simple majority for final funding and prioritization for all programs and projec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Review Team (SR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 for evaluating the strategic and tactical relevance of new and ongoing programs and projects, along with the related benefits, across ERCOT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ages the ERCOT portfolio in a collective manner to ensure all cross-functional impacts to projects are assessed on a cumulative basi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ppropriate, the SRT reviews projects and/or change orders and recommend them to the EC for approval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s overall reviews and recommends transfers of funding between divis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uous Analysis and Requirements Teams (CAR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 for the management of all programs and projec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s projects moving through the gating proces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ages Change Control proce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4623-24FF-4BFC-94CF-9DA0290171C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17720" y="748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oles and Responsibiliti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066680"/>
            <a:ext cx="82296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sional Projects Organization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 for managing program and project formulation and implementation, and providing oversight and direction to their divi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fic DPO responsibilities incl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s the Divisional-PPL strateg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s the high-level project release pla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s resource plans to support the project pla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ponsible for delivering all funded projects contained in the Divisional-PPL portfolio on time, within budget and meeting the business requir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9E76-034B-4893-B9AE-8008CD66A55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66960" y="6192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MO Roles and Responsibiliti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8280" y="838080"/>
            <a:ext cx="85806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ogram Management Office (PMO) focus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stering project management excellence through standardized processes, procedures, tools, training and support functions for all ERCOT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1400" y="1714680"/>
          <a:ext cx="88581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714680"/>
                    <a:ext cx="88581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BF2D-AFD0-4F7E-B7B9-9E126868743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7720" y="748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Authorization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06280" y="888840"/>
          <a:ext cx="8761680" cy="5784840"/>
        </p:xfrm>
        <a:graphic>
          <a:graphicData uri="http://schemas.openxmlformats.org/drawingml/2006/table">
            <a:tbl>
              <a:tblPr/>
              <a:tblGrid>
                <a:gridCol w="1635120"/>
                <a:gridCol w="5267520"/>
                <a:gridCol w="185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al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get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4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of Dire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s annual projects budget for all proje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the project phase gating into Execution where the total project budget is more than $1M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cumulative change control requests that are greater than $1M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vendor contracts greater than $1M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budget or changes greater than or equal to $1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Committ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the project phase gating for new projects where the total project cost is less than $1M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cumulative change control requests that are less than $1,000,0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vendor contracts less than $1M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approved budget and new projects or changes less than $1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the project phase gating for new projects where the total project cost is under $500,000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cumulative change control requests that are between $100,000 and $500,0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approved budget and new projects under $500,000 and changes between $100,000 and $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T and D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the project phase gating for new and active projects where the total project cost is within the approved budge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808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ed to approve cumulative change control requests that are less than $100,0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If the cumulative change control requests for a single project exceed $100K, the change control request will require the review and approval from the S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approved budget and changes less than $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37CE-C0B3-4210-B78D-EA8E3494856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0200" y="74880"/>
            <a:ext cx="7493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Session Road Map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3200" y="939960"/>
            <a:ext cx="7772400" cy="2387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1 - 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2 - Program and Project Govern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gment 3 - Portfolio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igin of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Pre-Concept and Concept Pro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visional Projects Portfolio Planning Proces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4 - Project Manage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5 – Project Metrics and Compli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723960" y="1555920"/>
            <a:ext cx="7197840" cy="1126800"/>
          </a:xfrm>
          <a:prstGeom prst="rect">
            <a:avLst/>
          </a:prstGeom>
          <a:noFill/>
          <a:ln w="9360">
            <a:solidFill>
              <a:srgbClr val="fa4606"/>
            </a:solidFill>
            <a:miter/>
          </a:ln>
          <a:effectLst>
            <a:outerShdw dist="153753" dir="2700000" blurRad="0" rotWithShape="0">
              <a:srgbClr val="9529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91000" y="3659040"/>
            <a:ext cx="1958760" cy="8366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rporat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Management Standa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21" idx="2"/>
            <a:endCxn id="223" idx="0"/>
          </p:cNvCxnSpPr>
          <p:nvPr/>
        </p:nvCxnSpPr>
        <p:spPr>
          <a:xfrm rot="5400000">
            <a:off x="4174200" y="4887720"/>
            <a:ext cx="788400" cy="396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139680" y="527688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AND PROJECT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27040" y="5280120"/>
            <a:ext cx="1171800" cy="136512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CONCEPT AND PROPO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6840" y="5281560"/>
            <a:ext cx="1171440" cy="136548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PRIORITIZATION AND 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81600" y="528336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DELIVERY AN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65720" y="5286240"/>
            <a:ext cx="1171440" cy="136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QUALITY REVIEW AN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34000" y="5276880"/>
            <a:ext cx="117180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, DIVISIONAL, AND ENTERPRISE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0" y="5278320"/>
            <a:ext cx="1171800" cy="136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METHODOLOGY AN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1" idx="2"/>
            <a:endCxn id="227" idx="0"/>
          </p:cNvCxnSpPr>
          <p:nvPr/>
        </p:nvCxnSpPr>
        <p:spPr>
          <a:xfrm flipH="1" rot="16200000">
            <a:off x="4815720" y="4250160"/>
            <a:ext cx="791280" cy="128160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1" idx="2"/>
            <a:endCxn id="228" idx="0"/>
          </p:cNvCxnSpPr>
          <p:nvPr/>
        </p:nvCxnSpPr>
        <p:spPr>
          <a:xfrm flipH="1" rot="16200000">
            <a:off x="5454720" y="3611160"/>
            <a:ext cx="781920" cy="25502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2"/>
            <a:endCxn id="229" idx="0"/>
          </p:cNvCxnSpPr>
          <p:nvPr/>
        </p:nvCxnSpPr>
        <p:spPr>
          <a:xfrm flipH="1" rot="16200000">
            <a:off x="6091920" y="2973240"/>
            <a:ext cx="783360" cy="3827880"/>
          </a:xfrm>
          <a:prstGeom prst="bentConnector3">
            <a:avLst>
              <a:gd name="adj1" fmla="val 49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1" idx="2"/>
            <a:endCxn id="226" idx="0"/>
          </p:cNvCxnSpPr>
          <p:nvPr/>
        </p:nvCxnSpPr>
        <p:spPr>
          <a:xfrm rot="5400000">
            <a:off x="3538080" y="4249440"/>
            <a:ext cx="786600" cy="1278720"/>
          </a:xfrm>
          <a:prstGeom prst="bentConnector3">
            <a:avLst>
              <a:gd name="adj1" fmla="val 498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1" idx="2"/>
            <a:endCxn id="225" idx="0"/>
          </p:cNvCxnSpPr>
          <p:nvPr/>
        </p:nvCxnSpPr>
        <p:spPr>
          <a:xfrm rot="5400000">
            <a:off x="2899440" y="3609000"/>
            <a:ext cx="785160" cy="2557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1" idx="2"/>
            <a:endCxn id="224" idx="0"/>
          </p:cNvCxnSpPr>
          <p:nvPr/>
        </p:nvCxnSpPr>
        <p:spPr>
          <a:xfrm rot="5400000">
            <a:off x="2256480" y="2963520"/>
            <a:ext cx="781920" cy="384588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6051600" y="3659040"/>
            <a:ext cx="30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gment covers information outlined in the Operating Procedures highlighted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D639-B078-4A18-A49B-8FE0C14A6D7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79560" y="748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Origin of Projec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3257640"/>
            <a:ext cx="44593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isional Projects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Management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folio of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Are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, Priorities &amp; Reporting and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" y="5006880"/>
            <a:ext cx="38289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ject Managem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 and Appro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, Costs, 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0360" y="1512720"/>
            <a:ext cx="3995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itiation of Project Requ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Rul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hange Requests (SC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Revision Requests (PR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roject Requests (P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711680" y="1092240"/>
            <a:ext cx="4064040" cy="5397480"/>
            <a:chOff x="4711680" y="1092240"/>
            <a:chExt cx="4064040" cy="5397480"/>
          </a:xfrm>
        </p:grpSpPr>
        <p:sp>
          <p:nvSpPr>
            <p:cNvPr id="242" name=""/>
            <p:cNvSpPr/>
            <p:nvPr/>
          </p:nvSpPr>
          <p:spPr>
            <a:xfrm>
              <a:off x="4711680" y="1434960"/>
              <a:ext cx="4064040" cy="4051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9000" y="4379760"/>
              <a:ext cx="2503440" cy="7812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PO 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ecutive Committe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0120" y="5708520"/>
              <a:ext cx="1681200" cy="7812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M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64120" y="1566720"/>
              <a:ext cx="1023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72120" y="1461960"/>
              <a:ext cx="13842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ticipa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35800" y="1568520"/>
              <a:ext cx="12225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C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270040" y="2660400"/>
              <a:ext cx="2960280" cy="1207800"/>
              <a:chOff x="5270040" y="2660400"/>
              <a:chExt cx="2960280" cy="1207800"/>
            </a:xfrm>
          </p:grpSpPr>
          <p:sp>
            <p:nvSpPr>
              <p:cNvPr id="249" name=""/>
              <p:cNvSpPr/>
              <p:nvPr/>
            </p:nvSpPr>
            <p:spPr>
              <a:xfrm rot="10800000">
                <a:off x="5270040" y="2660400"/>
                <a:ext cx="2960280" cy="754920"/>
              </a:xfrm>
              <a:prstGeom prst="triangle">
                <a:avLst>
                  <a:gd name="adj" fmla="val 50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aeae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6474600" y="3251160"/>
                <a:ext cx="592920" cy="6170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aeae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5342040" y="2112840"/>
              <a:ext cx="334800" cy="392400"/>
            </a:xfrm>
            <a:prstGeom prst="downArrow">
              <a:avLst>
                <a:gd name="adj1" fmla="val 50000"/>
                <a:gd name="adj2" fmla="val 293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02400" y="2112840"/>
              <a:ext cx="334800" cy="392400"/>
            </a:xfrm>
            <a:prstGeom prst="downArrow">
              <a:avLst>
                <a:gd name="adj1" fmla="val 50000"/>
                <a:gd name="adj2" fmla="val 293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59880" y="2112840"/>
              <a:ext cx="336240" cy="392400"/>
            </a:xfrm>
            <a:prstGeom prst="downArrow">
              <a:avLst>
                <a:gd name="adj1" fmla="val 50000"/>
                <a:gd name="adj2" fmla="val 291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83320" y="3989520"/>
              <a:ext cx="335160" cy="390240"/>
            </a:xfrm>
            <a:prstGeom prst="downArrow">
              <a:avLst>
                <a:gd name="adj1" fmla="val 50000"/>
                <a:gd name="adj2" fmla="val 291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83320" y="5318280"/>
              <a:ext cx="335160" cy="390240"/>
            </a:xfrm>
            <a:prstGeom prst="downArrow">
              <a:avLst>
                <a:gd name="adj1" fmla="val 50000"/>
                <a:gd name="adj2" fmla="val 291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13480" y="1092240"/>
              <a:ext cx="229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 Pipe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9B54-BC1D-416C-BCCF-273DB05D8CD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5120" y="13464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e-Concept/Concept Process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5440" y="1333440"/>
            <a:ext cx="8526600" cy="46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08E8-617F-43F2-B913-78A0A847DA4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-41400"/>
            <a:ext cx="8337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Divisional Projects </a:t>
            </a:r>
            <a:br>
              <a:rPr sz="2800"/>
            </a:b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ortfolio Planning Process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00" y="2292480"/>
            <a:ext cx="2876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ivisional Carry-Over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roject Priority and 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C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Divisional Annual Budget Projects Requir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utilizes the Quarterly Proc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Overall ERCOT Annual Projects Budget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ERCOT Annual Projects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0960" y="2268360"/>
            <a:ext cx="32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Proposed Changes to Divisional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Project Priority and R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C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Divisional Portfoli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Execution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Resource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ed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ivisional Portfolio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e Divisional Portfolio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nterprise-Wide Confl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Enterprise-Wide Confl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/Publish Divisional Portfolio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/Publish Enterprise-Wide Portfolio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65720" y="2274840"/>
            <a:ext cx="2978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Impacts to Divisional Projects from Project Status Up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ivisional Confl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Divisional Confl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ivisional Portfolio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e Divisional Portfolio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nterprise-Wide Confl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Enterprise-Wide Confl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/Publish Divisional Portfolio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/Publish Enterprise-Wide Portfolio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27040" y="1782720"/>
            <a:ext cx="0" cy="47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789200"/>
            <a:ext cx="6921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7840" y="1082520"/>
            <a:ext cx="2806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u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Prioritization and Annual Funding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81440" y="1073160"/>
            <a:ext cx="3321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rterl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Prioritization, Fund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Portfolio Manage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35640" y="1082520"/>
            <a:ext cx="2230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 Manage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4240" y="1782720"/>
            <a:ext cx="0" cy="50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72520" y="1785960"/>
            <a:ext cx="1440" cy="4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1C03-20F2-466A-8DC5-5B1D5C4EF7E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7720" y="12204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Training Agenda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092240"/>
            <a:ext cx="406404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gment 1: Introduc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ganizational Change Summa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MO Standard and Supporting Proced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gment 2: Program and Project Governance (10 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overnance Hierarch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isional Projects Organization (DP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les and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ct Authoriz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gment 3: Portfolio Management (10 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igin of Pro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ct Pre-Concept and Concept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isional Projects Portfolio Planning Proces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84240" y="1092240"/>
            <a:ext cx="43434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gment 4: Project Management (10 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ct Struc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ct Management &amp; Development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ct Phase Gating Delivera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gment 5: Project Metrics and Compliance (10 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ct Goals and Milest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ct Quality Assurance and 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Questions and Answers (15 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AEA3-E3C0-48CF-8569-F3C0A3F0E2A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74880"/>
            <a:ext cx="7493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Session Road Map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73200" y="927000"/>
            <a:ext cx="7772400" cy="24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1 - 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2 - Program and Project Govern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3 - Portfolio Manage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gment 4 - Projec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 &amp; Development Pro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Phase Gating Deliverab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5 – Project Metrics and Compli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723960" y="1854360"/>
            <a:ext cx="7184880" cy="1114200"/>
          </a:xfrm>
          <a:prstGeom prst="rect">
            <a:avLst/>
          </a:prstGeom>
          <a:noFill/>
          <a:ln w="9360">
            <a:solidFill>
              <a:srgbClr val="fa4606"/>
            </a:solidFill>
            <a:miter/>
          </a:ln>
          <a:effectLst>
            <a:outerShdw dist="153753" dir="2700000" blurRad="0" rotWithShape="0">
              <a:srgbClr val="9529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91000" y="3684600"/>
            <a:ext cx="1958760" cy="8366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rporat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Management Standa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73" idx="2"/>
            <a:endCxn id="275" idx="0"/>
          </p:cNvCxnSpPr>
          <p:nvPr/>
        </p:nvCxnSpPr>
        <p:spPr>
          <a:xfrm rot="5400000">
            <a:off x="4187160" y="4900320"/>
            <a:ext cx="76284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39680" y="527688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AND PROJECT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27040" y="5280120"/>
            <a:ext cx="117180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CONCEPT AND PROPO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06840" y="5281560"/>
            <a:ext cx="1171440" cy="136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PRIORITIZATION AND 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81600" y="528336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DELIVERY AN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65720" y="5286240"/>
            <a:ext cx="1171440" cy="136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QUALITY REVIEW AN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34000" y="5276880"/>
            <a:ext cx="117180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, DIVISIONAL, AND ENTERPRISE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12000" y="5278320"/>
            <a:ext cx="1171800" cy="136548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METHODOLOGY AN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3" idx="2"/>
            <a:endCxn id="279" idx="0"/>
          </p:cNvCxnSpPr>
          <p:nvPr/>
        </p:nvCxnSpPr>
        <p:spPr>
          <a:xfrm flipH="1" rot="16200000">
            <a:off x="4828320" y="4262760"/>
            <a:ext cx="765720" cy="12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3" idx="2"/>
            <a:endCxn id="280" idx="0"/>
          </p:cNvCxnSpPr>
          <p:nvPr/>
        </p:nvCxnSpPr>
        <p:spPr>
          <a:xfrm flipH="1" rot="16200000">
            <a:off x="5467320" y="3623760"/>
            <a:ext cx="756360" cy="255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3" idx="2"/>
            <a:endCxn id="281" idx="0"/>
          </p:cNvCxnSpPr>
          <p:nvPr/>
        </p:nvCxnSpPr>
        <p:spPr>
          <a:xfrm flipH="1" rot="16200000">
            <a:off x="6104520" y="2985840"/>
            <a:ext cx="757800" cy="3827880"/>
          </a:xfrm>
          <a:prstGeom prst="bentConnector3">
            <a:avLst>
              <a:gd name="adj1" fmla="val 498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3" idx="2"/>
            <a:endCxn id="278" idx="0"/>
          </p:cNvCxnSpPr>
          <p:nvPr/>
        </p:nvCxnSpPr>
        <p:spPr>
          <a:xfrm rot="5400000">
            <a:off x="3550680" y="4262400"/>
            <a:ext cx="761040" cy="1278720"/>
          </a:xfrm>
          <a:prstGeom prst="bentConnector3">
            <a:avLst>
              <a:gd name="adj1" fmla="val 498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3" idx="2"/>
            <a:endCxn id="277" idx="0"/>
          </p:cNvCxnSpPr>
          <p:nvPr/>
        </p:nvCxnSpPr>
        <p:spPr>
          <a:xfrm rot="5400000">
            <a:off x="2912040" y="3621960"/>
            <a:ext cx="759600" cy="25578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3" idx="2"/>
            <a:endCxn id="276" idx="0"/>
          </p:cNvCxnSpPr>
          <p:nvPr/>
        </p:nvCxnSpPr>
        <p:spPr>
          <a:xfrm rot="5400000">
            <a:off x="2269440" y="2976120"/>
            <a:ext cx="756360" cy="3845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6051600" y="3659040"/>
            <a:ext cx="30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gment covers information outlined in the Operating Procedures highlighted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9DF8-692D-4140-B229-7F948DB953A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7720" y="748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Structur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02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er organizational matrix established for the following project delivery stru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63480" y="1798560"/>
            <a:ext cx="7815240" cy="476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6DE6-15F5-430A-A37D-8AD8AD1F475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17720" y="874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Development Life Cyc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51128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ollowing diagram illustrates the Project Lifecycle Proces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30120" y="2460600"/>
            <a:ext cx="864864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F96D-117D-491B-A2D7-451C2F40954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7720" y="13464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hase Gating Deliverabl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0120" y="2610000"/>
            <a:ext cx="2144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h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Phase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Phase Resourc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Estimated Cash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I/RFP/SOW (if applic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lgat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51160" y="2611440"/>
            <a:ext cx="2211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on Phase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on Phase Resource P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d TCE (if applic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d Cash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Business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al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st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llgat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00640" y="2627280"/>
            <a:ext cx="2720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Control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I/RFP/SOW (if applic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 Selection &amp; 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 Product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, Unit Test, Produc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Plan, Test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&amp; User Acceptance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Certific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Support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Control Document (MC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to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Sta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 Control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uilt Detailed Business Requirements, Technical Architecture, &amp; Detaile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llgat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97680" y="262908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ign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109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109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109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llgat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55840" y="1903320"/>
            <a:ext cx="1440" cy="6368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8400" y="1674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53960" y="15224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00560" y="15224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48240" y="15224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04120" y="15224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1581120"/>
            <a:ext cx="152280" cy="15228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92520" y="1050840"/>
            <a:ext cx="9687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l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58200" y="1041480"/>
            <a:ext cx="9777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l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95440" y="1050840"/>
            <a:ext cx="1063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l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09280" y="1066680"/>
            <a:ext cx="9565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l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u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10000" y="1873080"/>
            <a:ext cx="1440" cy="6368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56240" y="1890720"/>
            <a:ext cx="1440" cy="6364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35880" y="1886040"/>
            <a:ext cx="1440" cy="6364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D676-B46D-497D-8D9A-6DE819F88A7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87480"/>
            <a:ext cx="7493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Session Road Map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73200" y="939600"/>
            <a:ext cx="7772400" cy="264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gment 1 - 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gment 2 - Program and Project Governa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gment 3 - Portfolio Manag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gment 4 - Project Manag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gment 5 – Project Metrics and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RCOT Project Reporting Information F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ject Goals and Milest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ject Quality Assurance and Compli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723960" y="2297160"/>
            <a:ext cx="7221600" cy="1262160"/>
          </a:xfrm>
          <a:prstGeom prst="rect">
            <a:avLst/>
          </a:prstGeom>
          <a:noFill/>
          <a:ln w="9360">
            <a:solidFill>
              <a:srgbClr val="fa4606"/>
            </a:solidFill>
            <a:miter/>
          </a:ln>
          <a:effectLst>
            <a:outerShdw dist="153753" dir="2700000" blurRad="0" rotWithShape="0">
              <a:srgbClr val="9529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1000" y="3672000"/>
            <a:ext cx="1958760" cy="8366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rporat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Management Standa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7" idx="2"/>
            <a:endCxn id="319" idx="0"/>
          </p:cNvCxnSpPr>
          <p:nvPr/>
        </p:nvCxnSpPr>
        <p:spPr>
          <a:xfrm rot="5400000">
            <a:off x="4174560" y="4900320"/>
            <a:ext cx="78804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139680" y="5289480"/>
            <a:ext cx="1171440" cy="136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AND PROJECT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27040" y="5292720"/>
            <a:ext cx="117180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CONCEPT AND PROPO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6840" y="5294160"/>
            <a:ext cx="1171440" cy="136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PRIORITIZATION AND 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81600" y="529596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DELIVERY AN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65720" y="529920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QUALITY REVIEW AN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34000" y="5289480"/>
            <a:ext cx="1171800" cy="136548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, DIVISIONAL, AND ENTERPRISE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812000" y="5291280"/>
            <a:ext cx="117180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METHODOLOGY AN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317" idx="2"/>
            <a:endCxn id="323" idx="0"/>
          </p:cNvCxnSpPr>
          <p:nvPr/>
        </p:nvCxnSpPr>
        <p:spPr>
          <a:xfrm flipH="1" rot="16200000">
            <a:off x="4815720" y="4263120"/>
            <a:ext cx="791280" cy="128160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17" idx="2"/>
            <a:endCxn id="324" idx="0"/>
          </p:cNvCxnSpPr>
          <p:nvPr/>
        </p:nvCxnSpPr>
        <p:spPr>
          <a:xfrm flipH="1" rot="16200000">
            <a:off x="5454720" y="3623760"/>
            <a:ext cx="781560" cy="255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7" idx="2"/>
            <a:endCxn id="325" idx="0"/>
          </p:cNvCxnSpPr>
          <p:nvPr/>
        </p:nvCxnSpPr>
        <p:spPr>
          <a:xfrm flipH="1" rot="16200000">
            <a:off x="6091920" y="2986200"/>
            <a:ext cx="783360" cy="3827880"/>
          </a:xfrm>
          <a:prstGeom prst="bentConnector3">
            <a:avLst>
              <a:gd name="adj1" fmla="val 49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17" idx="2"/>
            <a:endCxn id="322" idx="0"/>
          </p:cNvCxnSpPr>
          <p:nvPr/>
        </p:nvCxnSpPr>
        <p:spPr>
          <a:xfrm rot="5400000">
            <a:off x="3538080" y="4262400"/>
            <a:ext cx="786240" cy="1278720"/>
          </a:xfrm>
          <a:prstGeom prst="bentConnector3">
            <a:avLst>
              <a:gd name="adj1" fmla="val 49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7" idx="2"/>
            <a:endCxn id="321" idx="0"/>
          </p:cNvCxnSpPr>
          <p:nvPr/>
        </p:nvCxnSpPr>
        <p:spPr>
          <a:xfrm rot="5400000">
            <a:off x="2899440" y="3621960"/>
            <a:ext cx="784800" cy="255780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7" idx="2"/>
            <a:endCxn id="320" idx="0"/>
          </p:cNvCxnSpPr>
          <p:nvPr/>
        </p:nvCxnSpPr>
        <p:spPr>
          <a:xfrm rot="5400000">
            <a:off x="2256840" y="2976120"/>
            <a:ext cx="781560" cy="3845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6051600" y="3659040"/>
            <a:ext cx="30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gment covers information outlined in the Operating Procedures highlighted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CC40-D22E-44BD-88FA-C5804E1DF61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79560" y="-16200"/>
            <a:ext cx="7175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ERCOT Project Reporting </a:t>
            </a:r>
            <a:br>
              <a:rPr sz="2800"/>
            </a:b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Information Flow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10280" y="2762280"/>
            <a:ext cx="1549440" cy="1200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19680" y="2762280"/>
            <a:ext cx="1549440" cy="1200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/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2762280"/>
            <a:ext cx="1549440" cy="1200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40" y="2762280"/>
            <a:ext cx="1549440" cy="1200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4600" y="1015920"/>
            <a:ext cx="819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Projects Summary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27080" y="4832280"/>
            <a:ext cx="2108160" cy="1644480"/>
            <a:chOff x="127080" y="4832280"/>
            <a:chExt cx="2108160" cy="1644480"/>
          </a:xfrm>
        </p:grpSpPr>
        <p:sp>
          <p:nvSpPr>
            <p:cNvPr id="340" name=""/>
            <p:cNvSpPr/>
            <p:nvPr/>
          </p:nvSpPr>
          <p:spPr>
            <a:xfrm>
              <a:off x="685800" y="483228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8600"/>
              <a:ext cx="1549440" cy="11998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0560" y="498456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9040" y="507348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0120" y="514980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600" y="521316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7080" y="5276880"/>
              <a:ext cx="1549440" cy="11998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311560" y="4832280"/>
            <a:ext cx="2108160" cy="1644480"/>
            <a:chOff x="2311560" y="4832280"/>
            <a:chExt cx="2108160" cy="1644480"/>
          </a:xfrm>
        </p:grpSpPr>
        <p:sp>
          <p:nvSpPr>
            <p:cNvPr id="348" name=""/>
            <p:cNvSpPr/>
            <p:nvPr/>
          </p:nvSpPr>
          <p:spPr>
            <a:xfrm>
              <a:off x="2870280" y="483228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93960" y="490824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05040" y="498456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03520" y="507348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5149800"/>
              <a:ext cx="1549440" cy="11998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13080" y="521316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11560" y="5276520"/>
              <a:ext cx="154908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546440" y="4832280"/>
            <a:ext cx="2095560" cy="1644840"/>
            <a:chOff x="4546440" y="4832280"/>
            <a:chExt cx="2095560" cy="1644840"/>
          </a:xfrm>
        </p:grpSpPr>
        <p:sp>
          <p:nvSpPr>
            <p:cNvPr id="356" name=""/>
            <p:cNvSpPr/>
            <p:nvPr/>
          </p:nvSpPr>
          <p:spPr>
            <a:xfrm>
              <a:off x="5092560" y="483228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16600" y="490860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27680" y="498492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26160" y="5073840"/>
              <a:ext cx="154908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37240" y="514980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35360" y="521352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46440" y="527688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/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730920" y="4832280"/>
            <a:ext cx="2108160" cy="1644480"/>
            <a:chOff x="6730920" y="4832280"/>
            <a:chExt cx="2108160" cy="1644480"/>
          </a:xfrm>
        </p:grpSpPr>
        <p:sp>
          <p:nvSpPr>
            <p:cNvPr id="364" name=""/>
            <p:cNvSpPr/>
            <p:nvPr/>
          </p:nvSpPr>
          <p:spPr>
            <a:xfrm>
              <a:off x="7289640" y="4832280"/>
              <a:ext cx="1549440" cy="11998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13680" y="490824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24760" y="498456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23240" y="507348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5149800"/>
              <a:ext cx="1549440" cy="11998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32440" y="521316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0920" y="5276520"/>
              <a:ext cx="1549440" cy="12002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762120" y="4114800"/>
            <a:ext cx="838080" cy="635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95320" y="1962000"/>
            <a:ext cx="571680" cy="635040"/>
          </a:xfrm>
          <a:prstGeom prst="upArrow">
            <a:avLst>
              <a:gd name="adj1" fmla="val 50000"/>
              <a:gd name="adj2" fmla="val 277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99520" y="1962000"/>
            <a:ext cx="571320" cy="635040"/>
          </a:xfrm>
          <a:prstGeom prst="upArrow">
            <a:avLst>
              <a:gd name="adj1" fmla="val 50000"/>
              <a:gd name="adj2" fmla="val 277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08560" y="1962000"/>
            <a:ext cx="571680" cy="635040"/>
          </a:xfrm>
          <a:prstGeom prst="upArrow">
            <a:avLst>
              <a:gd name="adj1" fmla="val 50000"/>
              <a:gd name="adj2" fmla="val 277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79800" y="1962000"/>
            <a:ext cx="571320" cy="635040"/>
          </a:xfrm>
          <a:prstGeom prst="upArrow">
            <a:avLst>
              <a:gd name="adj1" fmla="val 50000"/>
              <a:gd name="adj2" fmla="val 277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46240" y="4114800"/>
            <a:ext cx="838440" cy="635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75360" y="4114800"/>
            <a:ext cx="838080" cy="635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65960" y="4114800"/>
            <a:ext cx="838080" cy="635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94E3-7A1D-46E2-9FCF-2402B554DEC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79560" y="748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Goals and Mileston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6 Goals for On-Time and On-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projects for 2006 will be measured for these goa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ral part of the Project and Divisional Projects Organization Status Repor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On-Budget Milestone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ning (Planned vs. Actual) Co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ion (Planned vs. Actual) Co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ject (Planned vs. Actual) Co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 On-Time Milestone goals (listed on the next pag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4E55-D2C1-4732-B836-F7283D92C60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17720" y="874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On-time Milestone Goal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947960" y="1054080"/>
          <a:ext cx="5230800" cy="5044680"/>
        </p:xfrm>
        <a:graphic>
          <a:graphicData uri="http://schemas.openxmlformats.org/drawingml/2006/table">
            <a:tbl>
              <a:tblPr/>
              <a:tblGrid>
                <a:gridCol w="5230800"/>
              </a:tblGrid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Milestones (10 – On-time Mileston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 Project Star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 Requirements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 Detail Design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 Technical Architecture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 Planning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 Development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 Unit/P-test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 I-Test / User Acceptance Test (UAT)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 Go Live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Project 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93E2-FF43-47BD-86A8-D2FC8E77F7DF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54360" y="-16200"/>
            <a:ext cx="7175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Quality Assurance </a:t>
            </a:r>
            <a:br>
              <a:rPr sz="2800"/>
            </a:b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and Complianc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ning, Quality, and Reporting (PQR) provi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erprise Portfolio Management and Report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and Project Management Standards, Procedures, Training and Suppor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and Portfolio Management Tools, Training and Support on T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and Project Management, and SDLC Process Complia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QR ensures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terprise and divisional portfolio management processes, standards, procedures and supporting tools are being used in a consistent fash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s are following the established ERCOT Program and Project Management standards and procedur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9FE7-D880-459D-9DC3-34048561A92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17720" y="874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QR Review and Complianc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1263600"/>
          <a:ext cx="881712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3600"/>
                    <a:ext cx="881712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69CE-7EB6-42CB-A021-2A69FCB1B85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17720" y="7488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gram Objectiv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2400" y="1981080"/>
            <a:ext cx="8267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e Organizational Chang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Revised Governance Stru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the New Portfolio Management Proc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the Project Management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the Revised Reporting Requirements and Forma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the Quality Assurance and Compliance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11240" y="794160"/>
            <a:ext cx="2517840" cy="2345040"/>
            <a:chOff x="6411240" y="794160"/>
            <a:chExt cx="2517840" cy="2345040"/>
          </a:xfrm>
        </p:grpSpPr>
        <p:grpSp>
          <p:nvGrpSpPr>
            <p:cNvPr id="102" name=""/>
            <p:cNvGrpSpPr/>
            <p:nvPr/>
          </p:nvGrpSpPr>
          <p:grpSpPr>
            <a:xfrm>
              <a:off x="6411240" y="794160"/>
              <a:ext cx="1903680" cy="1895400"/>
              <a:chOff x="6411240" y="794160"/>
              <a:chExt cx="1903680" cy="1895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6441840" y="870120"/>
                <a:ext cx="1873080" cy="1795680"/>
                <a:chOff x="6441840" y="870120"/>
                <a:chExt cx="1873080" cy="179568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6441840" y="870120"/>
                  <a:ext cx="1873080" cy="1795680"/>
                  <a:chOff x="6441840" y="870120"/>
                  <a:chExt cx="1873080" cy="17956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20229600">
                    <a:off x="6561720" y="1068120"/>
                    <a:ext cx="1195920" cy="86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685">
                        <a:moveTo>
                          <a:pt x="21" y="685"/>
                        </a:moveTo>
                        <a:lnTo>
                          <a:pt x="6" y="604"/>
                        </a:lnTo>
                        <a:lnTo>
                          <a:pt x="0" y="526"/>
                        </a:lnTo>
                        <a:lnTo>
                          <a:pt x="3" y="472"/>
                        </a:lnTo>
                        <a:lnTo>
                          <a:pt x="12" y="423"/>
                        </a:lnTo>
                        <a:lnTo>
                          <a:pt x="27" y="369"/>
                        </a:lnTo>
                        <a:lnTo>
                          <a:pt x="51" y="315"/>
                        </a:lnTo>
                        <a:lnTo>
                          <a:pt x="81" y="258"/>
                        </a:lnTo>
                        <a:lnTo>
                          <a:pt x="111" y="213"/>
                        </a:lnTo>
                        <a:lnTo>
                          <a:pt x="147" y="168"/>
                        </a:lnTo>
                        <a:lnTo>
                          <a:pt x="189" y="129"/>
                        </a:lnTo>
                        <a:lnTo>
                          <a:pt x="231" y="96"/>
                        </a:lnTo>
                        <a:lnTo>
                          <a:pt x="276" y="69"/>
                        </a:lnTo>
                        <a:lnTo>
                          <a:pt x="331" y="45"/>
                        </a:lnTo>
                        <a:lnTo>
                          <a:pt x="394" y="24"/>
                        </a:lnTo>
                        <a:lnTo>
                          <a:pt x="448" y="9"/>
                        </a:lnTo>
                        <a:lnTo>
                          <a:pt x="514" y="0"/>
                        </a:lnTo>
                        <a:lnTo>
                          <a:pt x="598" y="0"/>
                        </a:lnTo>
                        <a:lnTo>
                          <a:pt x="661" y="12"/>
                        </a:lnTo>
                        <a:lnTo>
                          <a:pt x="736" y="30"/>
                        </a:lnTo>
                        <a:lnTo>
                          <a:pt x="811" y="63"/>
                        </a:lnTo>
                        <a:lnTo>
                          <a:pt x="877" y="102"/>
                        </a:lnTo>
                        <a:lnTo>
                          <a:pt x="922" y="141"/>
                        </a:lnTo>
                        <a:lnTo>
                          <a:pt x="967" y="186"/>
                        </a:lnTo>
                        <a:lnTo>
                          <a:pt x="1003" y="231"/>
                        </a:lnTo>
                        <a:lnTo>
                          <a:pt x="907" y="159"/>
                        </a:lnTo>
                        <a:lnTo>
                          <a:pt x="856" y="129"/>
                        </a:lnTo>
                        <a:lnTo>
                          <a:pt x="802" y="108"/>
                        </a:lnTo>
                        <a:lnTo>
                          <a:pt x="733" y="87"/>
                        </a:lnTo>
                        <a:lnTo>
                          <a:pt x="667" y="78"/>
                        </a:lnTo>
                        <a:lnTo>
                          <a:pt x="595" y="75"/>
                        </a:lnTo>
                        <a:lnTo>
                          <a:pt x="541" y="78"/>
                        </a:lnTo>
                        <a:lnTo>
                          <a:pt x="484" y="87"/>
                        </a:lnTo>
                        <a:lnTo>
                          <a:pt x="427" y="102"/>
                        </a:lnTo>
                        <a:lnTo>
                          <a:pt x="373" y="120"/>
                        </a:lnTo>
                        <a:lnTo>
                          <a:pt x="313" y="150"/>
                        </a:lnTo>
                        <a:lnTo>
                          <a:pt x="267" y="177"/>
                        </a:lnTo>
                        <a:lnTo>
                          <a:pt x="228" y="210"/>
                        </a:lnTo>
                        <a:lnTo>
                          <a:pt x="183" y="246"/>
                        </a:lnTo>
                        <a:lnTo>
                          <a:pt x="147" y="285"/>
                        </a:lnTo>
                        <a:lnTo>
                          <a:pt x="111" y="339"/>
                        </a:lnTo>
                        <a:lnTo>
                          <a:pt x="78" y="396"/>
                        </a:lnTo>
                        <a:lnTo>
                          <a:pt x="57" y="450"/>
                        </a:lnTo>
                        <a:lnTo>
                          <a:pt x="39" y="514"/>
                        </a:lnTo>
                        <a:lnTo>
                          <a:pt x="27" y="592"/>
                        </a:lnTo>
                        <a:lnTo>
                          <a:pt x="21" y="6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20229600">
                    <a:off x="6842880" y="1394640"/>
                    <a:ext cx="1318680" cy="10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6" h="841">
                        <a:moveTo>
                          <a:pt x="0" y="511"/>
                        </a:moveTo>
                        <a:lnTo>
                          <a:pt x="63" y="583"/>
                        </a:lnTo>
                        <a:lnTo>
                          <a:pt x="132" y="646"/>
                        </a:lnTo>
                        <a:lnTo>
                          <a:pt x="195" y="682"/>
                        </a:lnTo>
                        <a:lnTo>
                          <a:pt x="286" y="721"/>
                        </a:lnTo>
                        <a:lnTo>
                          <a:pt x="358" y="742"/>
                        </a:lnTo>
                        <a:lnTo>
                          <a:pt x="424" y="751"/>
                        </a:lnTo>
                        <a:lnTo>
                          <a:pt x="502" y="751"/>
                        </a:lnTo>
                        <a:lnTo>
                          <a:pt x="559" y="745"/>
                        </a:lnTo>
                        <a:lnTo>
                          <a:pt x="628" y="733"/>
                        </a:lnTo>
                        <a:lnTo>
                          <a:pt x="697" y="712"/>
                        </a:lnTo>
                        <a:lnTo>
                          <a:pt x="754" y="682"/>
                        </a:lnTo>
                        <a:lnTo>
                          <a:pt x="808" y="649"/>
                        </a:lnTo>
                        <a:lnTo>
                          <a:pt x="856" y="616"/>
                        </a:lnTo>
                        <a:lnTo>
                          <a:pt x="904" y="568"/>
                        </a:lnTo>
                        <a:lnTo>
                          <a:pt x="952" y="514"/>
                        </a:lnTo>
                        <a:lnTo>
                          <a:pt x="989" y="463"/>
                        </a:lnTo>
                        <a:lnTo>
                          <a:pt x="1010" y="412"/>
                        </a:lnTo>
                        <a:lnTo>
                          <a:pt x="1037" y="331"/>
                        </a:lnTo>
                        <a:lnTo>
                          <a:pt x="1055" y="247"/>
                        </a:lnTo>
                        <a:lnTo>
                          <a:pt x="1058" y="172"/>
                        </a:lnTo>
                        <a:lnTo>
                          <a:pt x="1046" y="90"/>
                        </a:lnTo>
                        <a:lnTo>
                          <a:pt x="1019" y="0"/>
                        </a:lnTo>
                        <a:lnTo>
                          <a:pt x="1046" y="48"/>
                        </a:lnTo>
                        <a:lnTo>
                          <a:pt x="1076" y="117"/>
                        </a:lnTo>
                        <a:lnTo>
                          <a:pt x="1091" y="181"/>
                        </a:lnTo>
                        <a:lnTo>
                          <a:pt x="1106" y="241"/>
                        </a:lnTo>
                        <a:lnTo>
                          <a:pt x="1103" y="292"/>
                        </a:lnTo>
                        <a:lnTo>
                          <a:pt x="1100" y="361"/>
                        </a:lnTo>
                        <a:lnTo>
                          <a:pt x="1064" y="493"/>
                        </a:lnTo>
                        <a:lnTo>
                          <a:pt x="1028" y="565"/>
                        </a:lnTo>
                        <a:lnTo>
                          <a:pt x="983" y="628"/>
                        </a:lnTo>
                        <a:lnTo>
                          <a:pt x="934" y="682"/>
                        </a:lnTo>
                        <a:lnTo>
                          <a:pt x="886" y="721"/>
                        </a:lnTo>
                        <a:lnTo>
                          <a:pt x="820" y="766"/>
                        </a:lnTo>
                        <a:lnTo>
                          <a:pt x="754" y="796"/>
                        </a:lnTo>
                        <a:lnTo>
                          <a:pt x="691" y="817"/>
                        </a:lnTo>
                        <a:lnTo>
                          <a:pt x="610" y="838"/>
                        </a:lnTo>
                        <a:lnTo>
                          <a:pt x="550" y="841"/>
                        </a:lnTo>
                        <a:lnTo>
                          <a:pt x="484" y="841"/>
                        </a:lnTo>
                        <a:lnTo>
                          <a:pt x="418" y="829"/>
                        </a:lnTo>
                        <a:lnTo>
                          <a:pt x="346" y="814"/>
                        </a:lnTo>
                        <a:lnTo>
                          <a:pt x="298" y="796"/>
                        </a:lnTo>
                        <a:lnTo>
                          <a:pt x="234" y="763"/>
                        </a:lnTo>
                        <a:lnTo>
                          <a:pt x="180" y="733"/>
                        </a:lnTo>
                        <a:lnTo>
                          <a:pt x="129" y="691"/>
                        </a:lnTo>
                        <a:lnTo>
                          <a:pt x="75" y="634"/>
                        </a:lnTo>
                        <a:lnTo>
                          <a:pt x="24" y="562"/>
                        </a:lnTo>
                        <a:lnTo>
                          <a:pt x="0" y="5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6570360" y="915480"/>
                  <a:ext cx="1595520" cy="1692000"/>
                  <a:chOff x="6570360" y="915480"/>
                  <a:chExt cx="1595520" cy="16920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20229600">
                    <a:off x="6991200" y="2205360"/>
                    <a:ext cx="3420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78">
                        <a:moveTo>
                          <a:pt x="0" y="0"/>
                        </a:moveTo>
                        <a:lnTo>
                          <a:pt x="30" y="56"/>
                        </a:lnTo>
                        <a:lnTo>
                          <a:pt x="59" y="99"/>
                        </a:lnTo>
                        <a:lnTo>
                          <a:pt x="90" y="138"/>
                        </a:lnTo>
                        <a:lnTo>
                          <a:pt x="138" y="185"/>
                        </a:lnTo>
                        <a:lnTo>
                          <a:pt x="174" y="215"/>
                        </a:lnTo>
                        <a:lnTo>
                          <a:pt x="220" y="244"/>
                        </a:lnTo>
                        <a:lnTo>
                          <a:pt x="287" y="278"/>
                        </a:lnTo>
                        <a:lnTo>
                          <a:pt x="212" y="176"/>
                        </a:lnTo>
                        <a:lnTo>
                          <a:pt x="170" y="152"/>
                        </a:lnTo>
                        <a:lnTo>
                          <a:pt x="140" y="131"/>
                        </a:lnTo>
                        <a:lnTo>
                          <a:pt x="96" y="101"/>
                        </a:lnTo>
                        <a:lnTo>
                          <a:pt x="62" y="69"/>
                        </a:lnTo>
                        <a:lnTo>
                          <a:pt x="35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20229600">
                    <a:off x="7914960" y="1171080"/>
                    <a:ext cx="122760" cy="68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546">
                        <a:moveTo>
                          <a:pt x="19" y="0"/>
                        </a:moveTo>
                        <a:lnTo>
                          <a:pt x="39" y="37"/>
                        </a:lnTo>
                        <a:lnTo>
                          <a:pt x="52" y="69"/>
                        </a:lnTo>
                        <a:lnTo>
                          <a:pt x="66" y="102"/>
                        </a:lnTo>
                        <a:lnTo>
                          <a:pt x="76" y="134"/>
                        </a:lnTo>
                        <a:lnTo>
                          <a:pt x="84" y="164"/>
                        </a:lnTo>
                        <a:lnTo>
                          <a:pt x="99" y="217"/>
                        </a:lnTo>
                        <a:lnTo>
                          <a:pt x="103" y="269"/>
                        </a:lnTo>
                        <a:lnTo>
                          <a:pt x="100" y="349"/>
                        </a:lnTo>
                        <a:lnTo>
                          <a:pt x="93" y="403"/>
                        </a:lnTo>
                        <a:lnTo>
                          <a:pt x="82" y="447"/>
                        </a:lnTo>
                        <a:lnTo>
                          <a:pt x="65" y="493"/>
                        </a:lnTo>
                        <a:lnTo>
                          <a:pt x="42" y="546"/>
                        </a:lnTo>
                        <a:lnTo>
                          <a:pt x="0" y="443"/>
                        </a:lnTo>
                        <a:lnTo>
                          <a:pt x="19" y="398"/>
                        </a:lnTo>
                        <a:lnTo>
                          <a:pt x="28" y="374"/>
                        </a:lnTo>
                        <a:lnTo>
                          <a:pt x="39" y="343"/>
                        </a:lnTo>
                        <a:lnTo>
                          <a:pt x="46" y="311"/>
                        </a:lnTo>
                        <a:lnTo>
                          <a:pt x="52" y="262"/>
                        </a:lnTo>
                        <a:lnTo>
                          <a:pt x="55" y="221"/>
                        </a:lnTo>
                        <a:lnTo>
                          <a:pt x="55" y="160"/>
                        </a:lnTo>
                        <a:lnTo>
                          <a:pt x="46" y="105"/>
                        </a:lnTo>
                        <a:lnTo>
                          <a:pt x="36" y="60"/>
                        </a:lnTo>
                        <a:lnTo>
                          <a:pt x="30" y="3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20229600">
                    <a:off x="7061760" y="1001520"/>
                    <a:ext cx="48636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65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79" y="57"/>
                        </a:lnTo>
                        <a:lnTo>
                          <a:pt x="123" y="60"/>
                        </a:lnTo>
                        <a:lnTo>
                          <a:pt x="164" y="66"/>
                        </a:lnTo>
                        <a:lnTo>
                          <a:pt x="202" y="73"/>
                        </a:lnTo>
                        <a:lnTo>
                          <a:pt x="240" y="83"/>
                        </a:lnTo>
                        <a:lnTo>
                          <a:pt x="266" y="91"/>
                        </a:lnTo>
                        <a:lnTo>
                          <a:pt x="300" y="105"/>
                        </a:lnTo>
                        <a:lnTo>
                          <a:pt x="339" y="124"/>
                        </a:lnTo>
                        <a:lnTo>
                          <a:pt x="408" y="165"/>
                        </a:lnTo>
                        <a:lnTo>
                          <a:pt x="368" y="123"/>
                        </a:lnTo>
                        <a:lnTo>
                          <a:pt x="340" y="102"/>
                        </a:lnTo>
                        <a:lnTo>
                          <a:pt x="303" y="78"/>
                        </a:lnTo>
                        <a:lnTo>
                          <a:pt x="280" y="64"/>
                        </a:lnTo>
                        <a:lnTo>
                          <a:pt x="229" y="40"/>
                        </a:lnTo>
                        <a:lnTo>
                          <a:pt x="196" y="28"/>
                        </a:lnTo>
                        <a:lnTo>
                          <a:pt x="169" y="19"/>
                        </a:lnTo>
                        <a:lnTo>
                          <a:pt x="144" y="13"/>
                        </a:lnTo>
                        <a:lnTo>
                          <a:pt x="105" y="6"/>
                        </a:lnTo>
                        <a:lnTo>
                          <a:pt x="64" y="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20229600">
                    <a:off x="6658200" y="1568880"/>
                    <a:ext cx="15480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87">
                        <a:moveTo>
                          <a:pt x="0" y="297"/>
                        </a:moveTo>
                        <a:lnTo>
                          <a:pt x="3" y="267"/>
                        </a:lnTo>
                        <a:lnTo>
                          <a:pt x="5" y="234"/>
                        </a:lnTo>
                        <a:lnTo>
                          <a:pt x="14" y="181"/>
                        </a:lnTo>
                        <a:lnTo>
                          <a:pt x="24" y="139"/>
                        </a:lnTo>
                        <a:lnTo>
                          <a:pt x="38" y="101"/>
                        </a:lnTo>
                        <a:lnTo>
                          <a:pt x="56" y="62"/>
                        </a:lnTo>
                        <a:lnTo>
                          <a:pt x="72" y="32"/>
                        </a:lnTo>
                        <a:lnTo>
                          <a:pt x="92" y="0"/>
                        </a:lnTo>
                        <a:lnTo>
                          <a:pt x="130" y="50"/>
                        </a:lnTo>
                        <a:lnTo>
                          <a:pt x="108" y="80"/>
                        </a:lnTo>
                        <a:lnTo>
                          <a:pt x="92" y="107"/>
                        </a:lnTo>
                        <a:lnTo>
                          <a:pt x="79" y="132"/>
                        </a:lnTo>
                        <a:lnTo>
                          <a:pt x="60" y="167"/>
                        </a:lnTo>
                        <a:lnTo>
                          <a:pt x="48" y="198"/>
                        </a:lnTo>
                        <a:lnTo>
                          <a:pt x="41" y="228"/>
                        </a:lnTo>
                        <a:lnTo>
                          <a:pt x="32" y="258"/>
                        </a:lnTo>
                        <a:lnTo>
                          <a:pt x="26" y="291"/>
                        </a:lnTo>
                        <a:lnTo>
                          <a:pt x="21" y="331"/>
                        </a:lnTo>
                        <a:lnTo>
                          <a:pt x="17" y="371"/>
                        </a:lnTo>
                        <a:lnTo>
                          <a:pt x="10" y="387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" name=""/>
              <p:cNvSpPr/>
              <p:nvPr/>
            </p:nvSpPr>
            <p:spPr>
              <a:xfrm rot="20229600">
                <a:off x="6723360" y="1088640"/>
                <a:ext cx="1375920" cy="1388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6411240" y="794160"/>
                <a:ext cx="1806840" cy="1813320"/>
                <a:chOff x="6411240" y="794160"/>
                <a:chExt cx="1806840" cy="1813320"/>
              </a:xfrm>
            </p:grpSpPr>
            <p:sp>
              <p:nvSpPr>
                <p:cNvPr id="114" name=""/>
                <p:cNvSpPr/>
                <p:nvPr/>
              </p:nvSpPr>
              <p:spPr>
                <a:xfrm rot="20229600">
                  <a:off x="6642360" y="1026000"/>
                  <a:ext cx="1343520" cy="1353960"/>
                </a:xfrm>
                <a:prstGeom prst="ellipse">
                  <a:avLst/>
                </a:prstGeom>
                <a:noFill/>
                <a:ln w="633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20229600">
                  <a:off x="6626520" y="1006920"/>
                  <a:ext cx="1375920" cy="13878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20229600">
                  <a:off x="6664680" y="1044360"/>
                  <a:ext cx="1299600" cy="1313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7829280" y="1942920"/>
              <a:ext cx="1099800" cy="1196280"/>
              <a:chOff x="7829280" y="1942920"/>
              <a:chExt cx="1099800" cy="1196280"/>
            </a:xfrm>
          </p:grpSpPr>
          <p:sp>
            <p:nvSpPr>
              <p:cNvPr id="118" name=""/>
              <p:cNvSpPr/>
              <p:nvPr/>
            </p:nvSpPr>
            <p:spPr>
              <a:xfrm rot="20229600">
                <a:off x="8026920" y="2033280"/>
                <a:ext cx="672480" cy="101484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229600">
                <a:off x="7862040" y="2102760"/>
                <a:ext cx="206640" cy="20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9" y="13846"/>
                    </a:moveTo>
                    <a:arcTo wR="10800" hR="10800" stAng="9816983" swAng="10707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9" y="13846"/>
                    </a:moveTo>
                    <a:arcTo wR="10800" hR="10800" stAng="9816983" swAng="10707533"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229600">
                <a:off x="7875360" y="2112120"/>
                <a:ext cx="210240" cy="225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20"/>
                    </a:moveTo>
                    <a:arcTo wR="10800" hR="10800" stAng="10410941" swAng="10069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20"/>
                    </a:moveTo>
                    <a:arcTo wR="10800" hR="10800" stAng="10410941" swAng="10069629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229600">
                <a:off x="7879680" y="2130120"/>
                <a:ext cx="127440" cy="2599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229600">
                <a:off x="7860960" y="2102400"/>
                <a:ext cx="20700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3" y="13724"/>
                    </a:moveTo>
                    <a:arcTo wR="10800" hR="10800" stAng="9857570" swAng="5117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3" y="13724"/>
                    </a:moveTo>
                    <a:arcTo wR="10800" hR="10800" stAng="9857570" swAng="5117964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0229600">
                <a:off x="7984800" y="2204640"/>
                <a:ext cx="207720" cy="20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5" y="13584"/>
                    </a:moveTo>
                    <a:arcTo wR="10800" hR="10800" stAng="9903788" swAng="10696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5" y="13584"/>
                    </a:moveTo>
                    <a:arcTo wR="10800" hR="10800" stAng="9903788" swAng="10696462"/>
                  </a:path>
                </a:pathLst>
              </a:custGeom>
              <a:solidFill>
                <a:srgbClr val="7f3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67880" y="2187360"/>
                <a:ext cx="290880" cy="286200"/>
                <a:chOff x="7967880" y="2187360"/>
                <a:chExt cx="290880" cy="28620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7967880" y="2187360"/>
                  <a:ext cx="272520" cy="270360"/>
                  <a:chOff x="7967880" y="2187360"/>
                  <a:chExt cx="272520" cy="2703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rot="20229600">
                    <a:off x="7999560" y="2220480"/>
                    <a:ext cx="2080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20229600">
                    <a:off x="7999200" y="2219760"/>
                    <a:ext cx="20916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44238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44238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20229600">
                    <a:off x="8000280" y="2219760"/>
                    <a:ext cx="2080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4"/>
                        </a:moveTo>
                        <a:arcTo wR="10800" hR="10800" stAng="9985831" swAng="10707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4"/>
                        </a:moveTo>
                        <a:arcTo wR="10800" hR="10800" stAng="9985831" swAng="10707652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 rot="20229600">
                  <a:off x="8019000" y="2236680"/>
                  <a:ext cx="208080" cy="20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8003160" y="2219040"/>
                <a:ext cx="291240" cy="286560"/>
                <a:chOff x="8003160" y="2219040"/>
                <a:chExt cx="291240" cy="286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8003160" y="2219040"/>
                  <a:ext cx="272520" cy="270720"/>
                  <a:chOff x="8003160" y="2219040"/>
                  <a:chExt cx="272520" cy="27072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rot="20229600">
                    <a:off x="8034480" y="2252160"/>
                    <a:ext cx="2088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106992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1069921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20229600">
                    <a:off x="8034840" y="2251440"/>
                    <a:ext cx="20916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8" y="13054"/>
                        </a:moveTo>
                        <a:arcTo wR="10800" hR="10800" stAng="10077178" swAng="43826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8" y="13054"/>
                        </a:moveTo>
                        <a:arcTo wR="10800" hR="10800" stAng="10077178" swAng="4382672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20229600">
                    <a:off x="8035560" y="2251440"/>
                    <a:ext cx="2077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6" y="13180"/>
                        </a:moveTo>
                        <a:arcTo wR="10800" hR="10800" stAng="10036009" swAng="10698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6" y="13180"/>
                        </a:moveTo>
                        <a:arcTo wR="10800" hR="10800" stAng="10036009" swAng="1069879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 rot="20229600">
                  <a:off x="8054280" y="2268360"/>
                  <a:ext cx="208080" cy="20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6" y="13180"/>
                      </a:moveTo>
                      <a:arcTo wR="10800" hR="10800" stAng="10036009" swAng="10698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6" y="13180"/>
                      </a:moveTo>
                      <a:arcTo wR="10800" hR="10800" stAng="10036009" swAng="10698799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038440" y="2247480"/>
                <a:ext cx="272520" cy="270360"/>
                <a:chOff x="8038440" y="2247480"/>
                <a:chExt cx="272520" cy="270360"/>
              </a:xfrm>
            </p:grpSpPr>
            <p:sp>
              <p:nvSpPr>
                <p:cNvPr id="137" name=""/>
                <p:cNvSpPr/>
                <p:nvPr/>
              </p:nvSpPr>
              <p:spPr>
                <a:xfrm rot="20229600">
                  <a:off x="8070120" y="2280600"/>
                  <a:ext cx="208440" cy="204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20229600">
                  <a:off x="8069760" y="2279880"/>
                  <a:ext cx="2091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4341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4341291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8039520" y="2247480"/>
                <a:ext cx="290880" cy="286200"/>
                <a:chOff x="8039520" y="2247480"/>
                <a:chExt cx="290880" cy="286200"/>
              </a:xfrm>
            </p:grpSpPr>
            <p:sp>
              <p:nvSpPr>
                <p:cNvPr id="140" name=""/>
                <p:cNvSpPr/>
                <p:nvPr/>
              </p:nvSpPr>
              <p:spPr>
                <a:xfrm rot="20229600">
                  <a:off x="8070840" y="2279880"/>
                  <a:ext cx="208800" cy="20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20229600">
                  <a:off x="8089920" y="2296800"/>
                  <a:ext cx="208800" cy="204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8" y="13054"/>
                      </a:moveTo>
                      <a:arcTo wR="10800" hR="10800" stAng="10077178" swAng="1069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8" y="13054"/>
                      </a:moveTo>
                      <a:arcTo wR="10800" hR="10800" stAng="10077178" swAng="10699212"/>
                    </a:path>
                  </a:pathLst>
                </a:custGeom>
                <a:solidFill>
                  <a:srgbClr val="7f3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887240" y="2131200"/>
                <a:ext cx="944640" cy="828360"/>
                <a:chOff x="7887240" y="2131200"/>
                <a:chExt cx="944640" cy="828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039160" y="2131200"/>
                  <a:ext cx="792720" cy="64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87240" y="2274120"/>
                  <a:ext cx="809280" cy="68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8074440" y="2276280"/>
                <a:ext cx="288720" cy="283680"/>
                <a:chOff x="8074440" y="2276280"/>
                <a:chExt cx="288720" cy="28368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8074440" y="2276280"/>
                  <a:ext cx="272160" cy="270000"/>
                  <a:chOff x="8074440" y="2276280"/>
                  <a:chExt cx="272160" cy="2700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20229600">
                    <a:off x="8105760" y="2309040"/>
                    <a:ext cx="2077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107086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1070868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20229600">
                    <a:off x="8105760" y="2308680"/>
                    <a:ext cx="20916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" y="12799"/>
                        </a:moveTo>
                        <a:arcTo wR="10800" hR="10800" stAng="10160141" swAng="42997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" y="12799"/>
                        </a:moveTo>
                        <a:arcTo wR="10800" hR="10800" stAng="10160141" swAng="4299709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 rot="20229600">
                  <a:off x="8106480" y="2308680"/>
                  <a:ext cx="20808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" y="12927"/>
                      </a:moveTo>
                      <a:arcTo wR="10800" hR="10800" stAng="10118559" swAng="107086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" y="12927"/>
                      </a:moveTo>
                      <a:arcTo wR="10800" hR="10800" stAng="10118559" swAng="10708656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20229600">
                  <a:off x="8123040" y="2322720"/>
                  <a:ext cx="208080" cy="20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4"/>
                      </a:moveTo>
                      <a:arcTo wR="10800" hR="10800" stAng="9985831" swAng="10707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4"/>
                      </a:moveTo>
                      <a:arcTo wR="10800" hR="10800" stAng="9985831" swAng="10707652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rot="20229600">
                <a:off x="8218080" y="2267280"/>
                <a:ext cx="415080" cy="74988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229600">
                <a:off x="8667000" y="2770560"/>
                <a:ext cx="226440" cy="22968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99ED-D983-4E7A-814B-851E7F35CAA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882720" y="1257480"/>
            <a:ext cx="767376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17720" y="12204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uestions / Contact Information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AB2E-93E2-4EBA-AA70-F552415E6EFE}" type="slidenum">
              <a:t>30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74880"/>
            <a:ext cx="7493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Session Road Map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3200" y="939600"/>
            <a:ext cx="7772400" cy="2361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gment 1 - 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zational Change Summ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MO Standard and Supporting Proced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2 - Program and Project Govern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3 - Portfolio Manage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4 - Project Manage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5 – Projects Metrics and Compli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723960" y="977760"/>
            <a:ext cx="7234200" cy="1111320"/>
          </a:xfrm>
          <a:prstGeom prst="rect">
            <a:avLst/>
          </a:prstGeom>
          <a:noFill/>
          <a:ln w="9360">
            <a:solidFill>
              <a:srgbClr val="fa4606"/>
            </a:solidFill>
            <a:miter/>
          </a:ln>
          <a:effectLst>
            <a:outerShdw dist="153753" dir="2700000" blurRad="0" rotWithShape="0">
              <a:srgbClr val="9529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4CFD-4F67-40AA-B56D-A0B0DA3102F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5560" y="109440"/>
            <a:ext cx="91440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003320"/>
            <a:ext cx="864252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10000"/>
              </a:lnSpc>
              <a:spcBef>
                <a:spcPts val="137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Q3 2005, a PMO review was performed that provided “Quick Hit”, short term, and long term recommendations to help improve the effectiveness of the PMO and project deli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10000"/>
              </a:lnSpc>
              <a:spcBef>
                <a:spcPts val="137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process improvement team has completed the implementation of the following “Quick-Hit” recommendations to improve project deliv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ddress project accountability, responsibilit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basic management practices with specific focus on organizational structures and corresponding roles and responsib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Establish effective project reporting and communication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t both the project and enterprise lev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Establish a resource utilization proc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hat reflects accurate allocations for use in forecasting, scheduling, tracking and budgeting of projects. [Implementation has been delaye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E448-BAF3-40F8-A69E-8489CA0DA0C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79560" y="12672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Organizational Change Summary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9680" y="926640"/>
            <a:ext cx="886464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ed the following organizational structu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date curr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iz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gram Management Office (PMO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cusing on fostering project management excellence through standardized processes, procedures, tools, training and support functions for all ERCOT pro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entraliz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visional Projects Organization (DPO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cusing on accountability and responsibility for business area project portfolio management and delive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Divisional-PPL’s assigning accountability and responsibility to each ERCOT Executive for managing their resulting business area projects portfol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rified, documented and communicated Roles and Responsibilities to revised organizational struct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B3B7-79D0-4238-839F-BCC597F350E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9560" y="360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Organization Structure Changes</a:t>
            </a: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190800" y="871200"/>
            <a:ext cx="93344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oject management teams will report directly to their corresponding business area establishing a Divisional Projects Organization (DPO) that will be supported by the Program Management Office (PM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1000" y="2108160"/>
          <a:ext cx="897408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2108160"/>
                    <a:ext cx="897408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1477-654B-4B35-9A85-C05841D1DB6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MO Standard </a:t>
            </a:r>
            <a:br>
              <a:rPr sz="2800"/>
            </a:b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and Supporting Procedures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960" y="1073160"/>
            <a:ext cx="8429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following outlines the structure for the PMO operating procedures. Each operating procedure details one of the major processes described in the Program Management Standar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591000" y="2427120"/>
            <a:ext cx="1958760" cy="8366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rporat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Management Standa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6" idx="2"/>
            <a:endCxn id="168" idx="0"/>
          </p:cNvCxnSpPr>
          <p:nvPr/>
        </p:nvCxnSpPr>
        <p:spPr>
          <a:xfrm rot="5400000">
            <a:off x="4187160" y="3642840"/>
            <a:ext cx="76284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39680" y="4019400"/>
            <a:ext cx="1171440" cy="174636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AND PROJECT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27040" y="4022640"/>
            <a:ext cx="1171800" cy="174636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CONCEPT AND PROPO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6840" y="4024440"/>
            <a:ext cx="1171440" cy="174600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PRIORITIZATION AND 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81600" y="4025880"/>
            <a:ext cx="1171440" cy="174636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DELIVERY AN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65720" y="4029120"/>
            <a:ext cx="1171440" cy="174636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QUALITY REVIEW AN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34000" y="4019400"/>
            <a:ext cx="1171800" cy="174636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, DIVISIONAL, AND ENTERPRISE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2000" y="4021200"/>
            <a:ext cx="1171800" cy="174636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METHODOLOGY AN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66" idx="2"/>
            <a:endCxn id="172" idx="0"/>
          </p:cNvCxnSpPr>
          <p:nvPr/>
        </p:nvCxnSpPr>
        <p:spPr>
          <a:xfrm flipH="1" rot="16200000">
            <a:off x="4828320" y="3005640"/>
            <a:ext cx="766080" cy="12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6" idx="2"/>
            <a:endCxn id="173" idx="0"/>
          </p:cNvCxnSpPr>
          <p:nvPr/>
        </p:nvCxnSpPr>
        <p:spPr>
          <a:xfrm flipH="1" rot="16200000">
            <a:off x="5467320" y="2366280"/>
            <a:ext cx="756360" cy="255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6" idx="2"/>
            <a:endCxn id="174" idx="0"/>
          </p:cNvCxnSpPr>
          <p:nvPr/>
        </p:nvCxnSpPr>
        <p:spPr>
          <a:xfrm flipH="1" rot="16200000">
            <a:off x="6104520" y="1728720"/>
            <a:ext cx="758160" cy="3827880"/>
          </a:xfrm>
          <a:prstGeom prst="bentConnector3">
            <a:avLst>
              <a:gd name="adj1" fmla="val 498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6" idx="2"/>
            <a:endCxn id="171" idx="0"/>
          </p:cNvCxnSpPr>
          <p:nvPr/>
        </p:nvCxnSpPr>
        <p:spPr>
          <a:xfrm rot="5400000">
            <a:off x="3550680" y="3004920"/>
            <a:ext cx="761400" cy="127872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6" idx="2"/>
            <a:endCxn id="170" idx="0"/>
          </p:cNvCxnSpPr>
          <p:nvPr/>
        </p:nvCxnSpPr>
        <p:spPr>
          <a:xfrm rot="5400000">
            <a:off x="2912040" y="2364480"/>
            <a:ext cx="759600" cy="25578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6" idx="2"/>
            <a:endCxn id="169" idx="0"/>
          </p:cNvCxnSpPr>
          <p:nvPr/>
        </p:nvCxnSpPr>
        <p:spPr>
          <a:xfrm rot="5400000">
            <a:off x="2269440" y="1718640"/>
            <a:ext cx="756360" cy="3845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77840" y="6100920"/>
            <a:ext cx="866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contact Cheryl Mosley for location of approved PMO Opera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74EE-2910-4FF8-8FBE-6C81ACC2984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0200" y="74880"/>
            <a:ext cx="7493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Session Road Map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3200" y="927000"/>
            <a:ext cx="7772400" cy="267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1 - 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gment 2 – Program and Project Govern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Governance Hierarch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visional Projects Organization (DP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oles and Responsibil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ject Authorizations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3 - Portfolio Manage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4 - Project Manage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5 – Project Metrics and Compli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23960" y="1243080"/>
            <a:ext cx="7251480" cy="1417680"/>
          </a:xfrm>
          <a:prstGeom prst="rect">
            <a:avLst/>
          </a:prstGeom>
          <a:noFill/>
          <a:ln w="9360">
            <a:solidFill>
              <a:srgbClr val="fa4606"/>
            </a:solidFill>
            <a:miter/>
          </a:ln>
          <a:effectLst>
            <a:outerShdw dist="153753" dir="2700000" blurRad="0" rotWithShape="0">
              <a:srgbClr val="9529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1000" y="3798720"/>
            <a:ext cx="1958760" cy="8366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rporat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Management Standa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2"/>
            <a:endCxn id="187" idx="0"/>
          </p:cNvCxnSpPr>
          <p:nvPr/>
        </p:nvCxnSpPr>
        <p:spPr>
          <a:xfrm rot="5400000">
            <a:off x="4263120" y="4938480"/>
            <a:ext cx="610560" cy="39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139680" y="523872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AND PROJECT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27040" y="5241960"/>
            <a:ext cx="117180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CONCEPT AND PROPO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6840" y="5243400"/>
            <a:ext cx="1171440" cy="136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PRIORITIZATION AND 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81600" y="524520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DELIVERY AN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65720" y="5248440"/>
            <a:ext cx="117144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QUALITY REVIEW AN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34000" y="5238720"/>
            <a:ext cx="1171800" cy="1365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, DIVISIONAL, AND ENTERPRISE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12000" y="5240160"/>
            <a:ext cx="1171800" cy="136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perating Procedure #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METHODOLOGY AN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5" idx="2"/>
            <a:endCxn id="191" idx="0"/>
          </p:cNvCxnSpPr>
          <p:nvPr/>
        </p:nvCxnSpPr>
        <p:spPr>
          <a:xfrm flipH="1" rot="16200000">
            <a:off x="4904640" y="4300560"/>
            <a:ext cx="613440" cy="12816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5" idx="2"/>
            <a:endCxn id="192" idx="0"/>
          </p:cNvCxnSpPr>
          <p:nvPr/>
        </p:nvCxnSpPr>
        <p:spPr>
          <a:xfrm flipH="1" rot="16200000">
            <a:off x="5543640" y="3661920"/>
            <a:ext cx="603720" cy="255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5" idx="2"/>
            <a:endCxn id="193" idx="0"/>
          </p:cNvCxnSpPr>
          <p:nvPr/>
        </p:nvCxnSpPr>
        <p:spPr>
          <a:xfrm flipH="1" rot="16200000">
            <a:off x="6180840" y="3024000"/>
            <a:ext cx="605520" cy="382788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5" idx="2"/>
            <a:endCxn id="190" idx="0"/>
          </p:cNvCxnSpPr>
          <p:nvPr/>
        </p:nvCxnSpPr>
        <p:spPr>
          <a:xfrm rot="5400000">
            <a:off x="3627000" y="4300200"/>
            <a:ext cx="608760" cy="127872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5" idx="2"/>
            <a:endCxn id="189" idx="0"/>
          </p:cNvCxnSpPr>
          <p:nvPr/>
        </p:nvCxnSpPr>
        <p:spPr>
          <a:xfrm rot="5400000">
            <a:off x="2988360" y="3659760"/>
            <a:ext cx="607320" cy="2557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5" idx="2"/>
            <a:endCxn id="188" idx="0"/>
          </p:cNvCxnSpPr>
          <p:nvPr/>
        </p:nvCxnSpPr>
        <p:spPr>
          <a:xfrm rot="5400000">
            <a:off x="2345760" y="3014280"/>
            <a:ext cx="603720" cy="3845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6051600" y="3710160"/>
            <a:ext cx="30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gment covers information outlined in the Operating Procedures highlighted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740C-6B46-402C-96CF-A4FFA99F38D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amartinez</cp:lastModifiedBy>
  <dcterms:modified xsi:type="dcterms:W3CDTF">2006-05-10T04:43:08Z</dcterms:modified>
  <cp:revision>441</cp:revision>
  <dc:subject/>
  <dc:title>Slide 1</dc:title>
</cp:coreProperties>
</file>